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2C5-328A-41E5-A7CE-E44B255E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1B8-7C1A-407C-BD11-ECDF4F81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A2A-0B12-4DE4-8832-AC51D7EF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584-0BFC-4457-BEBD-0D4F94A3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B46-FA0F-4E93-B467-C55D823E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7FD-7305-4D8D-AEBC-FB1A483F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128-C0E2-48EE-B221-DFD17F6D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301-0174-4975-84A8-E2C3158F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233-9E2B-459F-B9C2-8E79CD9D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D19-F5CD-4F2B-8357-7353AEC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A75-B499-45EC-A599-8113101F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CE0-1371-47C5-AB34-8F20F47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06A7-8CC3-4C64-961F-1EDCD9B6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reston, Logan, and Mak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304920"/>
            <a:ext cx="853416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Section 6.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cent of quantity increases or decreases from its original amoun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cent of 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percent of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the percent of increase from 4 to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 Amount of increase = 7.5 – 4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increase = amount of incr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divided by original amount, in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imple terms 3.5 over 4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dividing that you end up with 0.875 = 87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 of increase from 4 to 7.5 is 87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percent of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the percent of decrease from 1,500 to 1,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 Amount of decrease = 1,500 – 1,416 =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decrease = amount of decr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divided by original amount, in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imple terms 84 over 1,500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dividing that you end up with 0.056 = 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 of decrease is 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you to 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ercent of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30 to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50 to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4 to 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ercent of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60 to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80 to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80 to 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27:39Z</dcterms:created>
  <dc:creator>Student</dc:creator>
  <dc:description/>
  <dc:language>en-US</dc:language>
  <cp:lastModifiedBy>Student</cp:lastModifiedBy>
  <dcterms:modified xsi:type="dcterms:W3CDTF">2010-03-08T19:47:41Z</dcterms:modified>
  <cp:revision>2</cp:revision>
  <dc:subject/>
  <dc:title>Slide 1</dc:title>
</cp:coreProperties>
</file>